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437-9AC3-4313-AA87-92B8CDBE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E55-8DA1-4907-9770-FD99F1C1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E2F19-3A82-4EFF-AEB6-1F5A27EB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9FEC1-6F8F-477C-8EFE-BEE579E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69CFE-D043-4570-B1A7-FD7FFDF4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FF65F-C9B8-45DB-8392-B29D6CDC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E52D0-B3DA-4369-A143-23A34F0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BF9F7-25B9-4292-AA1A-7F0751C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40A3-36D0-4D7B-B278-EE954FC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F6917-4E2E-4ECB-A7D3-583BC885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10E7-3E23-4D94-B4E8-1F8712D7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CE5B4-D6B7-433E-AA65-16A829C5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DCD-782C-406D-8865-E3AABCBC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1E0EE-A5A3-4EA8-A5FD-BD11592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B33D3-67EC-47B5-B012-49AF1549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EEC85-CA10-455C-9FC7-27B68935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8E003-3D7B-408C-AA35-CD902022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87375-99DA-4664-BC4E-06AF3340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FCB5F-0F45-4726-B908-89D44F3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016EA-A3FA-4453-95B6-AC9EBCC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4535-2616-495F-8DED-012DBD0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02D2-AE12-4C83-931C-31A123F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1B169-AB20-405E-96D6-F7EA1C98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EE8-CAAD-407C-B048-EFE9E2E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89E3-F783-4091-96C9-FA25FD93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C5074-D62B-482B-9E2B-73EFD873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73D3-DD02-488B-AFFB-AAB21741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36D00-DBCE-426E-897E-15D767F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C509-8CF1-41C1-8C27-8E7626FE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42EAD-4391-47D5-8841-E4374AB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57AB-10A2-40BF-AAA5-BD7537D7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03DAB-2DE4-4F16-8A7E-E08F419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DBAFE-34EB-4A8A-9BA6-24E09D5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5E3FB-EFE4-45EC-B9EA-22229C3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640-A97B-42A9-A466-C6950E4E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80258-741A-4585-9353-B6F4D73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C1C1-B77A-46EF-BD7A-A250030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9B5B-B88E-4A73-879C-9885E5DB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C470-DA00-4432-A8DF-813F5611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31D38-80DB-464A-A7F4-517E6D9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2A80-9E48-410B-B203-6241E629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2A6D8-37D3-432A-B84B-BC7D499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E6F76-CA8D-4EFA-8DE9-0A00FDCC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C6A19-41F6-4A64-AF35-B92C5390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97666-5117-49EA-B7A4-7321A45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24D-D003-4F35-B93B-EB17FAB4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70DBB-9C7A-4C35-AFD5-9400E1F2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8F8EA-E7F0-493D-9FDB-C896D9E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EE348-AD2F-4F36-9BF6-0FBFB36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F1DD2-C651-4042-B196-3CD10AB6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97D07-A8F8-4843-B0BC-1A10463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823EC-33EA-4841-891C-4A5684AA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96E42-08BB-4A5F-B051-A8BF534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34B6D-BE80-416A-8690-499E604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82E07-2473-4984-8D3E-74D9034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F11EB-38F6-4CC8-8471-0B49ACA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211F-D946-43F0-8402-BB57DC3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9263B-87CF-4545-852E-E9C66092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32514-7A8A-4D3B-9D1C-FF9BF08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19500-4E89-4CB6-A9DA-A414358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AFDBB-7294-478A-BCC0-BD1C697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59E49-EC85-40F9-AA5A-0A74FB50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E300A-9389-420A-B790-2EDF974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B9CB1-3196-4A6B-B530-456B721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C937F-D082-4FFC-A327-6E73AE6C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1FD4E-EC0F-4623-9C74-DC74C4C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60D5A-B5E7-42AC-A938-426C629F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BC5-BB37-4FCA-9EB0-85C17535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D65E-70B8-464F-A50B-1E5D6EA3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175E0-E7BE-445C-835A-BA50EC04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AB920-20FF-4CB3-9CC2-334924C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3F906-F473-4A46-96C5-6A7112F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4A891-4FAB-4AE5-9A89-C78A284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788BB-7492-482D-9154-557216B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472CC-10A0-401C-8384-C969A19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2438D-753B-4836-B23E-615425AA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0DDB3-2E39-4A41-ACFB-9C270D49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803D7-015E-4A0E-9C85-615C2598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40D1-B486-46D1-B749-A3BDAD6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B32A3-9749-4A54-B0DB-F98AC71E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240BD-C6E9-4804-AC79-9FF2F00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B0216-884B-4B9A-8D54-DF347AD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552E2-0257-4592-A421-5FC21C6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0A0E4-529E-4E41-9B79-C0FE3D38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57E6A-283C-4067-BE0E-B21FB3F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6FAF4-445F-4F4B-B73F-3CE378B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633EB-937F-4267-81E3-7D38913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D923E-1B84-4A2B-B3B6-588FBF2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D66E9-3CFA-4CC7-894E-B9FD559F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F11-F1B9-4DCD-A915-9AF209C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644C1-62AC-4407-B9BE-5FFF0506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2730C-5F07-441C-850F-8B677704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C1668-FEA8-4A12-9BBE-72438CE6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F5680-D763-4224-BA30-C4C6571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9AC88-149E-45B1-ACE4-FCFEDCF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7BD19-79E7-45B0-925B-D8CEED9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97151-43FC-4C0F-80E4-31E04780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A4FF8-0C32-47E7-A48C-26BAEEF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9588F-06EA-44B2-82D3-FE158DC2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068F3-8E3C-40AD-B38D-7DE4A5E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D4FB-DF1C-4974-8EB4-0A0A13F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6CFD6-8CEC-4B6B-BDC8-BDCF4DE6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C135E-A8CD-46D3-8CF0-1D7DC18D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9BF581-58A1-4021-93CC-DC236140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8AA6A-E6DA-4ED2-9E37-E0963322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68658-3E22-47FD-A3D6-F04F505E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1031C-5B5E-4106-B21A-4736AF9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A9F27E-AC1E-4C95-BE7C-F2770DE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62D09-21D4-4729-852E-A81D15A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287C6-0658-465A-B8B3-7BC13B76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6E0A6-9774-4FE9-8CF7-5ACDD96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E2B-CA84-4A18-9712-591D3B2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23A-A08B-4CE4-A785-0E8B816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54E15-0331-4F76-ABB4-E54CD1D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099B2-E1D3-400E-9031-D3A778F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7EFD9-9C72-4FDB-9F75-088EB1B2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ADA5E-00E2-47B4-B051-C210113E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FD7BB-CF34-4C5D-8129-D1F1F2EE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13A96-BC8C-449B-BA7A-56E284BC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F2634-8B87-4A1D-884E-1F66623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719C8-0C87-4464-8F6B-6E1D581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26EF9-16B0-4A3D-9855-13847BFF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83B17-A866-4C9F-B213-C8FF597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4F6-19BB-4B08-8B68-011243E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C7095-873C-4B31-B3E1-B81BBCE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2CB4E-FD1D-40F6-8417-C74BB2B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257E2-9075-4370-9DAA-A7388D4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D258A-339B-46FD-8E53-2A32B2A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D116C-0DE3-4564-9862-C9546C71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81755-7E2B-4808-88EC-501904E4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DCBCA-5D20-475F-8C0C-2F88FA05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E8B72-F0D6-481C-BD1C-39584758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3833A-1A10-41EC-A1A6-2F0CE623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5D6CA-5F26-4399-809F-42C56E3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A3D6-EF03-4008-B9F8-8045697D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3B6E5-88E2-4061-B94D-1A5A852F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4D7CD-DFE8-4150-BCCE-499A5737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D175D-7A54-4AFE-8D21-17EF8D3E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7630D-B4D9-44C2-B4A0-D70530D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33089-53EB-42B3-8C86-88C0713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981DC-DCE1-4277-8F85-714D530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96C56-1701-421D-B6E0-7C8A288F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51722-82A6-4853-8BC8-6F655CFC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1FB55-C9C2-4DDE-85BC-3031C040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6557A8-813D-4232-A29E-7E0D7AB6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2101-23EF-4C64-A03B-0C63C9D1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C6316-8FFE-4AFD-A9A7-99E0C18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6223E-D82E-43C0-9DBF-7FA2328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7AB8C-F91F-4205-8A42-1CC9F24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57736-51E9-420D-BC18-20A73838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17284-4C69-46D2-866C-96649C28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AA12A-9A81-486D-AEA7-AEA60F8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3F6F9-D19E-448E-8E36-21B4EED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C471D-C545-41AE-975D-47784CF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2756D-AA71-422D-82C5-AA592EB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C531C-011B-4AB2-B4F3-52B03D52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9049-5BCF-4A81-834E-9D475135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B657F-EA9B-4B10-9497-5A6385ED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A5D11-724F-4B56-B8B7-E4C98F1A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E4268-CC74-4EEF-88D2-EE6E607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1E87A8-0182-4296-8C55-E8D9608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139587-1966-42BC-9274-219EDD66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23825-EF09-4764-BEA7-0EADC44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907DD-0793-4446-8222-44E0B9F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5ECFD-36CA-47D3-AC91-3FACFF80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1D359-74DD-450D-8333-59CDA99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4841C-AFD9-44C9-BA4D-1201083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4B04-4A23-474B-97CA-D4ACD7E5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252BC-A7D7-4096-8D7C-B1FBAF8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B6899C-E60C-4AD3-ACEC-9B8A17F6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CA9F3-8181-4D22-87EA-2284EC74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65CC-2AC8-41FD-802E-BEE3110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0E84-B8B3-4473-9093-920C5CDD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3CB2-B489-4CFA-ACF4-07DA940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5D06-CABE-4158-8E96-99229C9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65F-3896-46AA-A546-CC76AB6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6BE8-8CD9-49E1-81F2-CAD5A1CF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FE31-7D1F-4E74-9134-DB1B2BE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2273-0213-48A2-8781-31608FF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8AAF-BDB0-4B7C-AC97-2D0E8E7D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9522-13E2-420D-AAA8-20A11F17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A686-53A6-434D-AFD0-7EFD1A7C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DD67-244E-40CE-A929-DF120EF5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DB89-7FCF-4176-9352-4069492F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2E55D-A928-44E7-A1E4-F093DB9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C546-7425-494C-A39A-9E38B98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AA9-82E5-4017-878E-5429F81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8387-33C3-48E6-BDAC-6727FF53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5C3B-F31C-41E6-8996-1B1E654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8E96-DC43-4CFA-BD1D-C386C39E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7790-C2E2-41F5-874F-530CA840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1E99-C956-4B56-9675-F6FD948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732E-A7F9-4904-8D9A-EA7C30E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C311-DA67-47F0-B7F9-A83A5FD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3216-7012-4C33-A093-A63FD316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1D94-38D5-4DFE-A942-F3597E61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1B0F-B4BB-46E0-8577-BADB6E1B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E1B-2113-4A80-A8BB-D78B460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50B8E-6347-4435-BBAD-AC313C4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D305-CA51-44FB-B95B-385ACEA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0B4D-4042-4C57-94B3-D933E1E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E420-4C19-493A-835B-62D912D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3989-BFFB-4548-AE20-ADD5A0F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3A0E1-E30C-4B12-B73C-4D64364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2C68-F776-45CB-80AB-52F73C4C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1BB7-351C-419D-AB99-E49397D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59535-2656-4AFF-BAA2-994158C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B4CAF-0AE1-47DA-929F-8A3DAD6E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0B7-F1A4-42CD-AAB7-BA033E3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1A0E-54D1-4F4E-83DB-F21809B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40B8-FF28-4F9C-9EEB-FF7BE9ED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20BE-96DE-4E4B-B26E-87B7D13C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B388-113C-4A33-A4AE-2E20870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EA3D-C098-41C2-8A92-56582A75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958E-136D-4436-A851-CBEA2446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F603-F0D9-44B2-B999-50E5A0F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021A-91D1-4764-8B98-853CA0E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DA86-8838-4EFD-9242-4440642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10CD-5C4E-436E-8FC5-5596CDA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0C-D7F7-4B6B-9A67-6BD108C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63F1-EFD1-4E8B-8E22-A9E1B36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0565-DEEC-466C-B2C8-8A1E6D1F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D0D5-3DD0-4EA8-AD0B-F5E83FE0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4262-871C-4132-84E7-AA96318B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D3214-B51A-4075-89FD-FB9A002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51C2-AF6E-438E-9F5C-08AC7CC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B19A1-E37C-4B17-AEFB-F02AC96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AE1F-BC40-4642-8A06-901478B1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D65B-2C8F-4DAC-BC51-36D316D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776B-D16F-46CA-A91D-676CCED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99E-4FE3-403A-8DBC-84D77F4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6C59-B592-43BF-8840-2A0A0AA0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7C42-1582-4CFB-8732-9473A4D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F60C-E26F-47FC-9D3F-5C0375F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4A60-35C3-4880-92DD-346F4ECF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0CD8E-B007-483D-A604-4C109574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35BB-34C5-4ABB-B04F-7BE28A97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A0B48-6058-4BA4-B284-609445C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4C9B-B46C-4141-B955-C4F68098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241F8-A4AD-4DF1-915F-9D00691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9532-261A-4B02-A172-0487E05D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672-632C-4B38-B788-1493594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417E4-5950-4CD8-8D16-875DCFB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F4AE-7D1C-4D1E-B47C-45017E0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EB490-FAD3-40A5-954D-75DA323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CF67F-16A1-4F68-8E1C-69A74CF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1E93E-E8FB-4DEA-92A8-67DA66D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0296-515F-4C2B-9F47-2829751F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776C-A74D-47CA-AB56-0FA8678A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0B8C-B257-4A28-8751-6FED1F53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D8C68-D12C-45BE-A787-E188AD4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D23DF-D9C3-481C-9CF7-1E56DE80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A64F-B96C-4917-84C1-D20A9335C3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F04-7B00-41F1-9479-22D7929C4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B6E5-DB5A-4C7A-9DCD-B31F48A62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A88-3D62-4207-807D-1886AADD0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EF7A-9184-4048-9B88-C9130BBB1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FBD-2F57-4BF5-ADDF-B9013222B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65C-CF59-4D7F-8812-6EFE59D9C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5F48-F582-48CE-921D-7E0EFB8F8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2BB-8927-4C5C-A603-202AC738A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AEF-AF62-4842-AB96-874146E15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B79-27A1-45D0-BB5B-ED616F2BD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560-D60A-4837-9320-810CF4AC0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164-2BD2-4D45-8D22-A9D82AA22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731E-DDBD-4C92-8851-F5620F7C5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4ED-BB3A-4AC1-824E-7481511C4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4DEA-C41F-40C7-B547-221AF92F2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EF53-761D-43FA-9728-215E6E147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E8E7-671E-4F5C-B4E2-08210B45AC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567-FCFB-427F-B2D7-07A6AF294C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C5C5-0FDE-41E3-BEC8-9D6248B11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384-01AD-44B6-BEFE-F84FB09DC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564-9926-402E-89E1-2BE8A30C0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F77-B39B-45D3-BC52-709845FF2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D86-E02C-47CE-9AE6-B4F65D093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DDC-7414-47C9-B328-88A0B13EE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C15-6956-4C7A-BCDE-9F2C54CD4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9C4D-1847-4C87-8660-BA3693A94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61BC-072F-4CAA-A498-08B521DD2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7D6-75BD-4D3D-9C23-8853F86D6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1EE-1170-491A-9B05-81CC51AE77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B29D-1BA0-442E-9E5A-F3D7F1477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4DB2-3A23-4BF8-AAC6-9A83B2B10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2224-969F-4E1A-AC7D-3237EF254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7CB-1692-4819-92E6-A079CB8E7F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CB44-52C3-446A-B34C-0FCB7412E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670-6619-4129-B295-114344F4A4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A72F-9422-4207-B55D-C3F5B90B18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261A-4D8E-49B1-A8AF-287593EF17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D07D-7737-4EC2-AB82-790C44B9E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65B-9184-435F-9F94-00346E481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8360" y="1654200"/>
            <a:ext cx="5743800" cy="12193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6448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814320" y="701640"/>
            <a:ext cx="7515360" cy="5896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484360" y="4437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067280" y="4437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724360" y="4437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80360" y="4437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484360" y="5661000"/>
            <a:ext cx="574920" cy="936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067280" y="5661000"/>
            <a:ext cx="574560" cy="936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724360" y="5661000"/>
            <a:ext cx="57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614520" y="649440"/>
            <a:ext cx="7914960" cy="6019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3132000" y="216216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4572000" y="216216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084720" y="2205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7596360" y="216216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1647720" y="3429000"/>
            <a:ext cx="574920" cy="863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3133800" y="342900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4718160" y="3471840"/>
            <a:ext cx="574560" cy="86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4500720" y="551664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855720" y="6064200"/>
            <a:ext cx="367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638280" y="797040"/>
            <a:ext cx="7867440" cy="5800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99564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262320" y="178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6576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357960" y="178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35796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38098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3076560" y="3056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4471920" y="3041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172200" y="3056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617220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298764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7093080" y="4292640"/>
            <a:ext cx="576000" cy="936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2973240" y="580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7020000" y="5589720"/>
            <a:ext cx="576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595440" y="1781280"/>
            <a:ext cx="7953120" cy="32954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372360" y="2089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995640" y="33289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01200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828720" y="3875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4427640" y="3860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3651120" y="443700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6324" descr=""/>
          <p:cNvPicPr/>
          <p:nvPr/>
        </p:nvPicPr>
        <p:blipFill>
          <a:blip r:embed="rId1"/>
          <a:stretch/>
        </p:blipFill>
        <p:spPr>
          <a:xfrm>
            <a:off x="1119240" y="647640"/>
            <a:ext cx="6905520" cy="5562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2124000" y="5200560"/>
            <a:ext cx="503280" cy="8208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3564000" y="5200560"/>
            <a:ext cx="503280" cy="8208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4946760" y="5186520"/>
            <a:ext cx="50328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5300" descr=""/>
          <p:cNvPicPr/>
          <p:nvPr/>
        </p:nvPicPr>
        <p:blipFill>
          <a:blip r:embed="rId1"/>
          <a:stretch/>
        </p:blipFill>
        <p:spPr>
          <a:xfrm>
            <a:off x="257040" y="728640"/>
            <a:ext cx="8629920" cy="5724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4248360" cy="863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826920" y="3803760"/>
            <a:ext cx="4248360" cy="8636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7920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4276" descr=""/>
          <p:cNvPicPr/>
          <p:nvPr/>
        </p:nvPicPr>
        <p:blipFill>
          <a:blip r:embed="rId1"/>
          <a:stretch/>
        </p:blipFill>
        <p:spPr>
          <a:xfrm>
            <a:off x="566640" y="1581120"/>
            <a:ext cx="8010720" cy="3695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1187280" y="2852640"/>
            <a:ext cx="4176720" cy="9367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417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2231" descr=""/>
          <p:cNvPicPr/>
          <p:nvPr/>
        </p:nvPicPr>
        <p:blipFill>
          <a:blip r:embed="rId1"/>
          <a:stretch/>
        </p:blipFill>
        <p:spPr>
          <a:xfrm>
            <a:off x="290520" y="1033560"/>
            <a:ext cx="8562960" cy="4790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4535640" cy="865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116000" y="4941720"/>
            <a:ext cx="4535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28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